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FEC-C306-4F4C-B57F-53317614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5D2-8B81-4CCB-AA7A-FD9748EC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82A-969B-4773-ADA1-F3BD865C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68A-4B75-4857-8E3F-1DE632F0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507F-035A-4A4A-A4FA-9874EBDF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1953-DE14-4DD7-BB5E-04EAE7DB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74CE-A0A7-4070-9B4D-AEBDC9D0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B080-9F21-44D2-997D-356E15D8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A9A7-7A54-4FEB-9C60-3F3CC1DA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4702-5B9F-4FC7-9E95-ECB95A03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C57C-B738-4D73-9944-662E0882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7B1-7DD2-4DAF-B248-BD633A25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C3AE-62D9-4C4B-95EC-E6F63240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ACA4-9F0E-48E0-8B0C-CED6C6A6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396B-4BCB-4247-8ACE-B0C8E56A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6087-D4C0-4709-981B-C53F1076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3CFC-5767-4CB7-8C74-ADB50FD9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977-1411-4C8F-A020-DFB68E73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E20-C893-4D30-A873-43663CEC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72B-B060-4EB3-9829-8D0FC7FD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DA9-1933-49F6-985B-42737F41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43E-C0B1-45B7-9EF6-FCF6859D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E00-55FD-4156-8C1B-B9F3422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707-34FC-4FBF-BDD4-7A6CD8BF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A7F3-058E-4193-9A14-89EC5CAD202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D46E-87E1-44DC-8332-A17D65954C2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Verdana"/>
              </a:rPr>
              <a:t>七年级上册生物复习提纲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石河子第八中学生物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生态系统具有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一定的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动调节能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在一般情况下，生态系统中生物的数量和所占比例是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相对稳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的。但这种自动调节能力有一定限度，超过则会遭到破坏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五、生物圈是最大的生态系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生态系统的类型：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森林生态系统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(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绿色水库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草原生态系统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农田生态系统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海洋生态系统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城市生态系统、湿地生态系统（地球之肾）、热带雨林（地球之肺）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生物圈是一个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统一的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整体：注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DT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的例子（富集）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.26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第二单元 生物和细胞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一、显微镜的结构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镜座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稳定镜身；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镜柱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支持镜柱以上的部分；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镜臂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握镜的部位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载物台：放置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玻片标本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的地方。中央有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通光孔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两旁各有一个压片夹，用于固定所观察的物体。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遮光器：上面有大小不等的圆孔，叫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光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每个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光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都可以对准通光孔，用来调节光线的强弱。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反光镜：可以转动，使光线经过通光孔反射上来。其两面是不同的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光强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时使用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平面镜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光弱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时使用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凹面镜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镜筒：上端装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目镜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下端有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转换器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在转换器上装有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物镜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后方有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准焦螺旋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准焦螺旋：①粗准焦螺旋：转动时镜筒升降的幅度大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      ②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准焦螺旋：转动时镜筒升降的幅度很小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转动方向和升降方向的关系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顺时针转动准焦螺旋，镜筒下降；反之则上升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二、显微镜的使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观察的物像与实际图像相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注意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玻片的移动方向和视野中物象的移动方向相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放大倍数＝物镜倍数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×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目镜倍数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放在显微镜下观察的生物标本，应该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薄而透明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光线能透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才能观察清楚。因此必须加工制成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玻片标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5629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三、观察动植物细胞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切片、涂片、装片的区别 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P.4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植物细胞的基本结构的作用 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P.45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细胞壁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支持、保护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细胞膜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控制物质的进出，保护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③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细胞质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液态的，可以流动的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④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细胞核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贮存和传递遗传信息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⑤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叶绿体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进行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光合作用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的场所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⑥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液泡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在细胞质中，含有细胞液，溶解着多种物质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248520" y="1676520"/>
            <a:ext cx="2895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6000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动物细胞的结构（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P.47—P.48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细胞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控制物质的进出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细胞核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贮存和传递遗传信息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细胞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液态，可以流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植物细胞与动物细胞的相同点：都有细胞膜、细胞质、细胞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植物细胞与动物细胞的不同点：植物细胞有细胞壁和液泡，动物细胞没有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2743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四、细胞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是构成生物体的结构和功能的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基本单位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五、细胞中的物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有机物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一般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含碳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可燃烧）：如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糖类、脂类、蛋白质、核酸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这些都是大分子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无机物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一般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不含碳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：如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水、无机物、氧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等，这些都是小分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六、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细胞膜控制物质的进出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，对物质有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选择性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有用物质进入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废物排出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七、细胞内的能量转换器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叶绿体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进行光合作用，把二氧化碳和水合成有机物，并产生氧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线粒体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进行呼吸作用，是细胞内的“动力工厂”、“发动机”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二者联系：都是细胞中的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能量转换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二者区别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叶绿体将光能转变成化学能储存在有机物中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线粒体分解有机物，将有机物中储存的化学能释放出来供细胞利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八、动植物细胞都有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线粒体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九、细胞核是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遗传信息库</a:t>
            </a: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，遗传信息存在于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细胞核</a:t>
            </a: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多莉羊的例子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P.55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细胞核中的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遗传信息的载体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DNA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DNA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的结构像一个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螺旋形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的梯子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基因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是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DNA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上的一个具有特定遗传信息的片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染色体：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P.59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DNA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蛋白质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组成染色体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不同的生物个体，染色体的形态、数量完全不同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；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③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同种生物个体，染色体在形态、数量保持一定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；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④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染色体容易被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碱性染料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染成深色；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⑤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染色体数量要保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恒定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否则会有严重的遗传病。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细胞的控制中心是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细胞核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十、细胞通过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分裂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产生新细胞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生物的由小长大是由于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细胞的分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细胞的生长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细胞分裂的过程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（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P.59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染色体进行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复制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②细胞核分成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等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的两个细胞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③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质分成两份 ④植物细胞：在原细胞中间形成新的细胞膜和细胞壁；动物细胞：细胞膜逐渐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内陷，形成两个新细胞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第一单元 生物和生物圈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一、生物的特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生物的生活需要营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生物能进行呼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生物能排出体内产生的废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生物能对外界刺激做出反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生物能生长和繁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生物都是由细胞构成的（病毒除外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十一、细胞是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物质</a:t>
            </a: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能量</a:t>
            </a: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、和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信息</a:t>
            </a: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的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统一体</a:t>
            </a: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十二、新生命的开端——受精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经细胞分化形成的各种各样的细胞各自聚集在一起才能行使其功能，这些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形态结构相似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功能相同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的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细胞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聚集起来所形成的细胞群叫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组织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P.6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不同的组织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按一定的次序结合在一起构成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器官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P.64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动物和人的基本组织可以分为四种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上皮组织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结缔组织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肌肉组织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神经组织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P.63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四种组织按照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一定的次序构成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并且以其中的一种组织为主，形成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器官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能够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共同完成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一种或几种生理功能的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多个器官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按照一定的次序组成在一起构成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系统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八大系统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运动系统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消化系统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呼吸系统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循环系统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泌尿系统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神经系统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内分泌系统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生殖系统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动物和人的基本结构层次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小到大）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细胞—→组织—→器官—→系统—→动物体和人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植物结构层次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小到大）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细胞—→组织—→器官—→植物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绿色开花植物的六大器官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P.65—P.66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营养器官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根、茎、叶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生殖器官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花、果实、种子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植物的组织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分生组织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保护组织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营养组织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输导组织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81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十三、单细胞生物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单细胞生物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草履虫、酵母菌、衣藻、眼虫、变形虫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草履虫的结构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P.70 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图Ⅱ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-24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单细胞生物与人类的关系：有益也有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益处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①鱼的饵料；②净化污水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如疟原虫、痢疾内变形虫等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害处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①引发疾病；②形成赤潮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29240" y="1143000"/>
            <a:ext cx="3614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十四、没有细胞结构的生物——病毒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病毒的种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以寄主不同分：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动物病毒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植物病毒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细菌病毒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噬菌体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病毒结构：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蛋白质外壳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内部的遗传物质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第三单元 生物圈中的绿色植物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一、藻类植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藻类植物的主要特征：结构简单，是单细胞或多细胞个体，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无根、茎、叶等器官的分化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细胞里有叶绿体，能进行光合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大都生活在水中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藻类植物通过光合作用制造的有机物可以作为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鱼的饵料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放出的氧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除供鱼类呼吸外，还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是大气中氧气的重要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占整个绿色植物释放氧气的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95%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藻类的经济意义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海带、紫菜、海白菜等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可食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从藻类植物中提取的碘、褐藻胶、琼脂等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可供工业、医药上使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二、苔藓植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苔藓植物的根是假根，不能吸收水分和无机盐，而苔藓植物的茎和叶中没有输导组织，不能运输水分。所以苔藓植物的生命活动不能离开水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苔藓植物密集生长，植株之间的缝隙能够涵蓄水分，所以，成片的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苔藓植物对林地、山野的水土保持具有一定的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苔藓植物对二氧化硫等有毒气体十分敏感，在污染严重的城市和工厂附近很难生存。人们利用这个特点，把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苔藓植物当作监测空气污染程度的指示植物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三、蕨类植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蕨类植物出现根、茎、叶等器官的分化，而且还具有输导组织、机械组织，所以植株比较高大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孢子是一种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生殖细胞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蕨类植物的经济意义在于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有些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可食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②有些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可供药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③有些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可供观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④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有些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可作为优良的绿肥和饲料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⑤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古代的蕨类植物的遗体经过漫长的年代，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变成了煤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四、种子植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种子的结构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蚕豆种子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种皮、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{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胚芽、胚轴、胚根、子叶（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片）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玉米种子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果皮和种皮、胚、子叶（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片）、胚乳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种子植物比苔藓、蕨类更适应陆地的生活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其中一个重要的原因是能产生种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记住常见的裸子植物和被子植物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191120" cy="2692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895480" y="4514760"/>
            <a:ext cx="59436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第二章 被子植物的一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种子的萌发环境条件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适宜的温度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一定的水分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充足的空气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自身条件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具有完整的有生命力的胚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已度过休眠期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测定种子的发芽率（会计算）和抽样检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种子萌发的过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吸收水分—→转运营养物质—→胚根发育成根—→胚芽和胚轴发育成茎和叶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注意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首先突破种皮的是胚根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食用豆芽的白胖部分是由胚轴发育来的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幼根的生长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生长最快的部位是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根尖的伸长区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根的生长一方面靠分生区增加细胞的数量，一方面要靠伸长区细胞体积的增大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枝条是由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芽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发育成的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植株生长需要的营养物质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水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无机盐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主要是：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氮、磷、钾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有机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花由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花芽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发育而来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花的结构：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P.10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花托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萼片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花瓣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雌蕊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雄蕊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传粉和受精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P.103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67080" y="1676520"/>
            <a:ext cx="4876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二、调查的步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明确调查目的；②确定调查对象；③制定合理的调查方案；④调查记录；⑤对调查结果进行整理；⑥撰写调查报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果实和种子的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子房—→果实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受精卵—→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胚珠—→种子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子房壁—→果皮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人工受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当传粉不足的时候可以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人工辅助受粉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被子植物的生命周期包括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种子的萌发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植株的生长和发育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开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结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衰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死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Verdana"/>
              </a:rPr>
              <a:t>第三章 绿色植物与生物圈的水循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一、绿色植物的生活需要水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水分在植物体内的作用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水分是植物体的重要组成成份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水分可以保持植物的固有姿态，叶片因有水才能舒展，有利于光合作用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③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水分是植物体内物质吸收和运输的溶剂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④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水分参与植物其他的生命活动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水影响植物的分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水在生物圈中的分布是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不均匀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的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植物在不同时期需水量不同，同一植物的不同生长发育时期需水量也有很大差异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二、水分进入植物体内的途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根吸水的部位主要是根尖的成熟区，成熟区有大量的根毛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意义：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根毛多可以大大增加根吸水收水分的表面积，提高根吸水的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植物运输物质的途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导管：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从下往上输送水分和无机盐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筛管：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从上往下输送叶片光合作用产生的有机物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三、绿色植物参与生物圈的水循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叶片的结构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表皮（上表皮和下表皮）、叶肉、叶脉、气孔（位于下表皮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气孔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保卫细胞吸水膨胀，气孔张开；保卫细胞失水收缩，气孔关闭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白天气孔张开，晚上气孔闭合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、蒸腾作用的意义：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可降低植物的温度，使植物不至于被灼伤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是根吸收水分和促使水分在体内运输的主要动力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③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可促使溶解在水中的无机盐在体内运输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④</a:t>
            </a:r>
            <a:r>
              <a:rPr b="0" lang="zh-CN" sz="2100" spc="-1" strike="noStrike" u="sng">
                <a:solidFill>
                  <a:srgbClr val="000000"/>
                </a:solidFill>
                <a:uFillTx/>
                <a:latin typeface="Verdana"/>
              </a:rPr>
              <a:t>可增加大气湿度，降低环境温度，提高降水量，促进生物圈水循环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第四章 绿色植物是生物圈中有机物的制造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天竺葵的实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暗处理：把天竺葵放到黑暗处一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目的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让天竺葵在黑暗中把叶片中的淀粉全部转运和消耗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）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对照实验：将一片叶子的一半的上下面用黑纸片遮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目的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做对照实验，看看照光的部位和不照光的部位是不是都产生淀粉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）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脱色：几个小时后把叶片放进水中隔水加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目的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脱色，溶解叶片中叶绿素便于观察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染色：用碘液染色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结论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淀粉遇碘变蓝，可见光部分进行光合作用，制造有机物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光合作用概念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绿色植物利用光提供的能量，在叶绿体中合成了淀粉等有机物，并且把光能转变成化学能，储存在有机物中，这个过程叫光合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光合作用实质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绿色植物通过叶绿体，利用光能，把二氧化碳和水转化成储存能量的有机物（如淀粉），并且释放出氧气的过程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90720" y="4724280"/>
            <a:ext cx="754380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光合作用意义：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绿色植物通过光合作用制造的有机物，不仅满足了自身生长、发育、繁殖的需要，而且为生物圈中的其他生物提供了基本的食物来源、氧气来源、能量来源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绿色植物对有机物的利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用来构建植物体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为植物的生命活动提供能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呼吸作用的概念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细胞利用氧，将有机物分解成二氧化碳和水，并且将储存在有机物中的能量释放出来，供给生命活动的需要，这个过程叫呼吸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呼吸作用意义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呼吸作用释放出来的能量，一部分是植物进行各项生命活动（如：细胞分裂、吸收无机盐、运输有机物等）不可缺少的动力，一部分转变成热量散发出去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84582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第五章 绿色植物是与生物圈中的碳—氧平衡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绿色植物通过光合作用，不断消耗大气中的二氧化碳，产生氧气，维持了生物圈中的碳氧平衡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呼吸作用与生产生活的关系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中耕松土、及时排涝都是为了使空气流通，以利于植物根部进行呼吸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植物的呼吸作用要分解有机物，因此在储存植物的种子或其他器官时，要设法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降低呼吸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降低温度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减少含水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降低氧气浓度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增大二氧化碳浓度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等都可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抑制呼吸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78880" cy="16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、光合作用与生产生活关系：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</a:rPr>
              <a:t>要保证农作物有效地进行光合作用的各种条件，尤其是光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</a:rPr>
              <a:t>合理密植，使作物的叶片充分地接受光照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3352680"/>
          <a:ext cx="7924680" cy="3124080"/>
        </p:xfrm>
        <a:graphic>
          <a:graphicData uri="http://schemas.openxmlformats.org/drawingml/2006/table">
            <a:tbl>
              <a:tblPr/>
              <a:tblGrid>
                <a:gridCol w="1658520"/>
                <a:gridCol w="2572920"/>
                <a:gridCol w="3693240"/>
              </a:tblGrid>
              <a:tr h="8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光合作用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呼吸作用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部位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叶绿体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粒体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条件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光、无光均可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料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氧化碳、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机物、氧气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产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机物、氧气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氧化碳、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能量变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储存能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释放能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三、生物的分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按照形态结构分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动物、植物、其他生物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按照生活环境分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陆生生物、水生生物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按照用途分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作物、家禽、家畜、宠物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第六章 爱护植被，绿化祖国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我国主要的植被类型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草原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荒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热带雨林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常绿阔叶林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落叶阔叶林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针叶林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我国植被面临的主要问题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植被覆盖率低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②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森林资源和草原资源破坏严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③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过度放牧使草场退化、沙化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我国森林覆盖率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16.55%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我国植树节：每年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月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12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热带雨林——地球的“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生物圈的“绿色工厂”——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绿色植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四、生物圈是所有生物的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生物圈的范围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大气圈的底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可飞翔的鸟类、昆虫、细菌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水圈的大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距海平面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5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米内的水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岩石圈的表面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是一切陆生生物的“立足点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生物圈为生物的生存提供了基本条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营养物质、阳光、空气和水，适宜的温度和一定的生存空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环境对生物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非生物因素对生物的影响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光、水分、温度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等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探究的过程：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提出问题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作出假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设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制定计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实施计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得出结论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表达和交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对照实验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在研究一种条件对研究对象的影响时，所进行的除了这种条件不同以外，其他条件都相同的实验，叫做“对照实验”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生物因素对生物的影响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最常见的是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捕食关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还有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竞争关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合作关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生物对环境的适应和影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对环境的适应的例子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.19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生物对环境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植物的蒸腾作用调节空气湿度、植物的枯叶枯枝腐烂后可调节土壤肥力、动物粪便改良土壤、蚯蚓松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Verdana"/>
              </a:rPr>
              <a:t>生态系统的概念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在一定地域内，生物与环境所形成的统一整体叫生态系统。一片森林，一块农田，一片草原，一个湖泊，等都可以看作一个生态系统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、生态系统的组成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生物部分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Verdana"/>
              </a:rPr>
              <a:t>生产者、消费者、分解者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非生物部分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Verdana"/>
              </a:rPr>
              <a:t>阳光、水、空气、温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、如果将生态系统中的每一个环节中的所有生物分别称重，在一般情况下数量最大的应该是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Verdana"/>
              </a:rPr>
              <a:t>生产者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11560" y="1968480"/>
          <a:ext cx="3333960" cy="3233880"/>
        </p:xfrm>
        <a:graphic>
          <a:graphicData uri="http://schemas.openxmlformats.org/drawingml/2006/table">
            <a:tbl>
              <a:tblPr/>
              <a:tblGrid>
                <a:gridCol w="1026000"/>
                <a:gridCol w="2307960"/>
              </a:tblGrid>
              <a:tr h="20458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物部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生产者、消费者、分解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89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非生物部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阳光、水、空气、温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植物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是生态系统中的生产者，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动物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是生态系统中的消费者，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细菌和真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是生态系统中的分解者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食物链和食物网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物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能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是沿着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食物链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食物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流动的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食物链以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生产者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为起点，终点为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消费者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且是不被其他动物捕食的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“最高级”动物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③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营养级越高，生物数量越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④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有毒物质沿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Verdana"/>
              </a:rPr>
              <a:t>食物链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积累（富集）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03:02:47Z</dcterms:created>
  <dc:creator>Administrator</dc:creator>
  <dc:description/>
  <dc:language>en-US</dc:language>
  <cp:lastModifiedBy>Windows 用户</cp:lastModifiedBy>
  <dcterms:modified xsi:type="dcterms:W3CDTF">2012-05-07T05:16:5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